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DF5769-4A53-4088-86AB-9A69B5A99F78}"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21E37-AEAB-4D46-A5DA-499B35E9E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1FAB9-81D3-4D9B-842B-4FF5C0C21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CE844-6A59-4CB0-9623-12C953D58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EE6D9-D1C7-4D34-8536-BC31D4976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CC2FE-1595-466A-9512-A18B7ACFD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5D28A-EA38-46D0-8143-34EB784EA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839D6-C3D6-4E93-8D62-C2B7EAD28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F08C2-4763-4B42-B520-E1FCDBDED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73C9F-D98A-4810-81A0-C03A34455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89BEA-11E9-46B2-9243-14A174C2D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6EDA6-1936-44F9-9CBB-92B41FB4D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DD3C9-B891-428B-B6D4-554A06CFC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E33B8-2BA8-4EBF-A860-BB73553AC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3170E-8DDD-46CA-97FC-AE2A821F3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D7966-064D-446A-A917-FDF6AEE1A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1C46B-78F4-4382-9C2F-808C4E318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2C763-4BFE-4B54-A7DE-2326A535B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B6A5D-CBD7-4554-AA6A-F8BAFE0CB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12E7F-DD07-4C04-A946-77F0C1C9D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0E55C-89C0-4240-9694-04E9619B5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BA83D-0B6C-42A4-8B92-2A8110132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75A7-0D17-48A4-93A0-6BE802DE4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1D5D-CDDE-4D12-9CB0-5D271EE4A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9722-C3DB-4A1B-916C-A1552E3DF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D701-B1BB-42FD-9678-0E0D35EF8B27}"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4A53-3356-4C7D-94A5-069F8E86E06E}"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0590-35E7-4276-8DE0-6BA2F03CF35D}"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9F8A-871B-4E77-95D5-5D7239D58946}"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C4362B6-32F2-4C20-BC61-D96ECD4878F8}" type="slidenum">
              <a:t>10</a:t>
            </a:fld>
          </a:p>
        </p:txBody>
      </p:sp>
      <p:sp>
        <p:nvSpPr>
          <p:cNvPr id="5" name="PlaceHolder 4"/>
          <p:cNvSpPr>
            <a:spLocks noGrp="1"/>
          </p:cNvSpPr>
          <p:nvPr>
            <p:ph type="dt" idx="1"/>
          </p:nvPr>
        </p:nvSpPr>
        <p:spPr/>
        <p:txBody>
          <a:bodyPr/>
          <a:p>
            <a:fld id="{AD5F6741-8AE9-4A72-BBAB-2C4EE112B65B}" type="datetime1">
              <a:rPr lang="en-US"/>
              <a:t>07/29/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754BDB1-2C8F-4C3B-AA50-308697498A5E}" type="slidenum">
              <a:t>11</a:t>
            </a:fld>
          </a:p>
        </p:txBody>
      </p:sp>
      <p:sp>
        <p:nvSpPr>
          <p:cNvPr id="6" name="PlaceHolder 5"/>
          <p:cNvSpPr>
            <a:spLocks noGrp="1"/>
          </p:cNvSpPr>
          <p:nvPr>
            <p:ph type="dt" idx="1"/>
          </p:nvPr>
        </p:nvSpPr>
        <p:spPr/>
        <p:txBody>
          <a:bodyPr/>
          <a:p>
            <a:fld id="{C452D305-E9C9-4613-AF11-D995017D99B0}" type="datetime1">
              <a:rPr lang="en-US"/>
              <a:t>07/29/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6CB0D96-DAB8-4A2D-BE7E-7EE8BBB21636}" type="slidenum">
              <a:t>12</a:t>
            </a:fld>
          </a:p>
        </p:txBody>
      </p:sp>
      <p:sp>
        <p:nvSpPr>
          <p:cNvPr id="6" name="PlaceHolder 5"/>
          <p:cNvSpPr>
            <a:spLocks noGrp="1"/>
          </p:cNvSpPr>
          <p:nvPr>
            <p:ph type="dt" idx="1"/>
          </p:nvPr>
        </p:nvSpPr>
        <p:spPr/>
        <p:txBody>
          <a:bodyPr/>
          <a:p>
            <a:fld id="{065916F7-ED7F-489A-BA93-FF018AF3600A}"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B86D449-9584-4807-B9AE-B4A1344243A1}" type="slidenum">
              <a:t>13</a:t>
            </a:fld>
          </a:p>
        </p:txBody>
      </p:sp>
      <p:sp>
        <p:nvSpPr>
          <p:cNvPr id="6" name="PlaceHolder 5"/>
          <p:cNvSpPr>
            <a:spLocks noGrp="1"/>
          </p:cNvSpPr>
          <p:nvPr>
            <p:ph type="dt" idx="1"/>
          </p:nvPr>
        </p:nvSpPr>
        <p:spPr/>
        <p:txBody>
          <a:bodyPr/>
          <a:p>
            <a:fld id="{7460DB8A-01D1-4DA2-A0B5-669301A39E80}"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5342775-32B3-4529-B9D1-11B0043A65CB}" type="slidenum">
              <a:t>14</a:t>
            </a:fld>
          </a:p>
        </p:txBody>
      </p:sp>
      <p:sp>
        <p:nvSpPr>
          <p:cNvPr id="6" name="PlaceHolder 5"/>
          <p:cNvSpPr>
            <a:spLocks noGrp="1"/>
          </p:cNvSpPr>
          <p:nvPr>
            <p:ph type="dt" idx="1"/>
          </p:nvPr>
        </p:nvSpPr>
        <p:spPr/>
        <p:txBody>
          <a:bodyPr/>
          <a:p>
            <a:fld id="{2F4077EE-BC94-4883-956A-8A21570DE77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B43E5CD-27F4-4261-A14C-A64F2825B3C7}" type="slidenum">
              <a:t>15</a:t>
            </a:fld>
          </a:p>
        </p:txBody>
      </p:sp>
      <p:sp>
        <p:nvSpPr>
          <p:cNvPr id="6" name="PlaceHolder 5"/>
          <p:cNvSpPr>
            <a:spLocks noGrp="1"/>
          </p:cNvSpPr>
          <p:nvPr>
            <p:ph type="dt" idx="1"/>
          </p:nvPr>
        </p:nvSpPr>
        <p:spPr/>
        <p:txBody>
          <a:bodyPr/>
          <a:p>
            <a:fld id="{7AB203CC-5EE6-43F3-9437-11F2108B2335}"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996179A-8907-4E2C-8A43-9C817AD834A1}" type="slidenum">
              <a:t>2</a:t>
            </a:fld>
          </a:p>
        </p:txBody>
      </p:sp>
      <p:sp>
        <p:nvSpPr>
          <p:cNvPr id="6" name="PlaceHolder 5"/>
          <p:cNvSpPr>
            <a:spLocks noGrp="1"/>
          </p:cNvSpPr>
          <p:nvPr>
            <p:ph type="dt" idx="1"/>
          </p:nvPr>
        </p:nvSpPr>
        <p:spPr/>
        <p:txBody>
          <a:bodyPr/>
          <a:p>
            <a:fld id="{371EC8A7-1779-4C90-8966-4C6D35D86F8E}" type="datetime1">
              <a:rPr lang="en-US"/>
              <a:t>07/29/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EA3015D-0A9F-457B-93EB-788CB3609862}" type="slidenum">
              <a:t>3</a:t>
            </a:fld>
          </a:p>
        </p:txBody>
      </p:sp>
      <p:sp>
        <p:nvSpPr>
          <p:cNvPr id="6" name="PlaceHolder 5"/>
          <p:cNvSpPr>
            <a:spLocks noGrp="1"/>
          </p:cNvSpPr>
          <p:nvPr>
            <p:ph type="dt" idx="1"/>
          </p:nvPr>
        </p:nvSpPr>
        <p:spPr/>
        <p:txBody>
          <a:bodyPr/>
          <a:p>
            <a:fld id="{50CC6E63-E826-4384-AB9A-D275E9DDC9C2}" type="datetime1">
              <a:rPr lang="en-US"/>
              <a:t>07/29/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94CE402-5EDD-4579-8380-DF607EE40A0D}" type="slidenum">
              <a:t>4</a:t>
            </a:fld>
          </a:p>
        </p:txBody>
      </p:sp>
      <p:sp>
        <p:nvSpPr>
          <p:cNvPr id="6" name="PlaceHolder 5"/>
          <p:cNvSpPr>
            <a:spLocks noGrp="1"/>
          </p:cNvSpPr>
          <p:nvPr>
            <p:ph type="dt" idx="1"/>
          </p:nvPr>
        </p:nvSpPr>
        <p:spPr/>
        <p:txBody>
          <a:bodyPr/>
          <a:p>
            <a:fld id="{B59FC522-27A9-41BE-B95E-257184BE6F2E}" type="datetime1">
              <a:rPr lang="en-US"/>
              <a:t>07/29/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C8775C5-6BBD-4AA2-8934-D793A37EAD94}" type="slidenum">
              <a:t>5</a:t>
            </a:fld>
          </a:p>
        </p:txBody>
      </p:sp>
      <p:sp>
        <p:nvSpPr>
          <p:cNvPr id="5" name="PlaceHolder 4"/>
          <p:cNvSpPr>
            <a:spLocks noGrp="1"/>
          </p:cNvSpPr>
          <p:nvPr>
            <p:ph type="dt" idx="1"/>
          </p:nvPr>
        </p:nvSpPr>
        <p:spPr/>
        <p:txBody>
          <a:bodyPr/>
          <a:p>
            <a:fld id="{CE4D947E-B221-4050-8CF5-88E7D36B9AB5}" type="datetime1">
              <a:rPr lang="en-US"/>
              <a:t>07/29/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04259CC-0627-47EC-A246-7B7AD34B19E1}" type="slidenum">
              <a:t>6</a:t>
            </a:fld>
          </a:p>
        </p:txBody>
      </p:sp>
      <p:sp>
        <p:nvSpPr>
          <p:cNvPr id="5" name="PlaceHolder 4"/>
          <p:cNvSpPr>
            <a:spLocks noGrp="1"/>
          </p:cNvSpPr>
          <p:nvPr>
            <p:ph type="dt" idx="1"/>
          </p:nvPr>
        </p:nvSpPr>
        <p:spPr/>
        <p:txBody>
          <a:bodyPr/>
          <a:p>
            <a:fld id="{BDA2EE10-687C-45AF-A579-B193024C8A1D}" type="datetime1">
              <a:rPr lang="en-US"/>
              <a:t>07/29/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757D7D2-69AA-4695-B698-1C8ED9EAFD42}" type="slidenum">
              <a:t>7</a:t>
            </a:fld>
          </a:p>
        </p:txBody>
      </p:sp>
      <p:sp>
        <p:nvSpPr>
          <p:cNvPr id="6" name="PlaceHolder 5"/>
          <p:cNvSpPr>
            <a:spLocks noGrp="1"/>
          </p:cNvSpPr>
          <p:nvPr>
            <p:ph type="dt" idx="1"/>
          </p:nvPr>
        </p:nvSpPr>
        <p:spPr/>
        <p:txBody>
          <a:bodyPr/>
          <a:p>
            <a:fld id="{CD30BAD5-BE58-4ACD-A72A-30F82A4B38D1}" type="datetime1">
              <a:rPr lang="en-US"/>
              <a:t>07/29/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1BFD69E-1236-4D26-A1E6-D2AA48FEB536}" type="slidenum">
              <a:t>8</a:t>
            </a:fld>
          </a:p>
        </p:txBody>
      </p:sp>
      <p:sp>
        <p:nvSpPr>
          <p:cNvPr id="6" name="PlaceHolder 5"/>
          <p:cNvSpPr>
            <a:spLocks noGrp="1"/>
          </p:cNvSpPr>
          <p:nvPr>
            <p:ph type="dt" idx="1"/>
          </p:nvPr>
        </p:nvSpPr>
        <p:spPr/>
        <p:txBody>
          <a:bodyPr/>
          <a:p>
            <a:fld id="{FE0C406B-6BC1-4067-99AE-39E73704779B}" type="datetime1">
              <a:rPr lang="en-US"/>
              <a:t>07/29/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01C967E-8160-42E2-82A1-953FC481F7D1}" type="slidenum">
              <a:t>9</a:t>
            </a:fld>
          </a:p>
        </p:txBody>
      </p:sp>
      <p:sp>
        <p:nvSpPr>
          <p:cNvPr id="5" name="PlaceHolder 4"/>
          <p:cNvSpPr>
            <a:spLocks noGrp="1"/>
          </p:cNvSpPr>
          <p:nvPr>
            <p:ph type="dt" idx="1"/>
          </p:nvPr>
        </p:nvSpPr>
        <p:spPr/>
        <p:txBody>
          <a:bodyPr/>
          <a:p>
            <a:fld id="{E1E83AA0-9425-4155-873C-72979BD738E3}" type="datetime1">
              <a:rPr lang="en-US"/>
              <a:t>07/29/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